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push.wav" ContentType="audio/x-wav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1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2B98-BAE9-43DB-95E1-322D8B45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6D37-CB16-4B06-9B91-C7591028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90BF-6EB7-4CBC-A675-00E93853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50CD-2ED4-44C2-A150-70FBB3DB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CFE-33F3-4D27-AC4A-69D2DA5A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745-C7F5-4127-82A5-C2C0BD95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D8FF-E0CF-4550-B759-4C634BAA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6FF-3D22-4B61-B685-6CD1F23E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2A4B-02D9-4DBD-8E18-546E4D34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E752-2426-4A11-988F-F2523B9B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BCFA-1F37-48D5-A3CD-80233AB1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5329-6C3A-4DA4-9871-CC79280C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CCFC-A3BD-48E9-8632-32179842611C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826920" y="907920"/>
            <a:ext cx="7191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ÖZLER GÖRMEZSE GÖNÜL NASIL GÖRÜR ?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-252360" y="3716280"/>
            <a:ext cx="900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</a:t>
            </a: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u soruya yüzyıllar boyu cevap aradık.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ll dir="l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5280" y="3213000"/>
            <a:ext cx="8445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9900cc"/>
                </a:solidFill>
                <a:latin typeface="Arial"/>
              </a:rPr>
              <a:t>DOSTLAR BENİ HATIRLAS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9900cc"/>
                </a:solidFill>
                <a:latin typeface="Arial"/>
              </a:rPr>
              <a:t>SAZIMDAN SES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9900cc"/>
                </a:solidFill>
                <a:latin typeface="Arial"/>
              </a:rPr>
              <a:t>DEYİŞ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1403280" y="333360"/>
            <a:ext cx="61452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SERLERİ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l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AŞK VY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7"/>
          <p:cNvSpPr txBox="1"/>
          <p:nvPr/>
        </p:nvSpPr>
        <p:spPr>
          <a:xfrm>
            <a:off x="0" y="5589720"/>
            <a:ext cx="914400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NİM SADIK YARİM KARA TOPRAKTIR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l"/>
    <p:sndAc>
      <p:stSnd>
        <p:snd r:embed="rId4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80755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Günümüzde de halk şiiri aynı özellikleriyle devam etmekted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Aşıklar köy köy Anadolu’yu gezer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Radyo,televizyon,CD araçlarını kullanır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MAHSUNİ ŞERİF,NEŞAT ERTAŞ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826920" y="260280"/>
            <a:ext cx="7315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ÜNÜMÜZDE DE HALK ŞAİRİ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AR MIDIR ?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ll dir="l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87_asik_veysel_0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73" name="WordArt 8"/>
          <p:cNvSpPr txBox="1"/>
          <p:nvPr/>
        </p:nvSpPr>
        <p:spPr>
          <a:xfrm>
            <a:off x="250920" y="260280"/>
            <a:ext cx="8713800" cy="8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ZUN İNCE BİR YOLDAYIM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l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611280" y="476280"/>
            <a:ext cx="7738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İLGİNİZ İÇİN TEŞEKKÜRLER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5" name="Picture 6" descr="AŞİK"/>
          <p:cNvPicPr/>
          <p:nvPr/>
        </p:nvPicPr>
        <p:blipFill>
          <a:blip r:embed="rId1"/>
          <a:stretch/>
        </p:blipFill>
        <p:spPr>
          <a:xfrm>
            <a:off x="1476360" y="1700280"/>
            <a:ext cx="5904000" cy="4968720"/>
          </a:xfrm>
          <a:prstGeom prst="rect">
            <a:avLst/>
          </a:prstGeom>
          <a:ln w="0">
            <a:noFill/>
          </a:ln>
        </p:spPr>
      </p:pic>
      <p:sp>
        <p:nvSpPr>
          <p:cNvPr id="76" name="WordArt 7"/>
          <p:cNvSpPr txBox="1"/>
          <p:nvPr/>
        </p:nvSpPr>
        <p:spPr>
          <a:xfrm>
            <a:off x="611280" y="476280"/>
            <a:ext cx="7738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İLGİNİZ İÇİN TEŞEKKÜRLER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ll dir="l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8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5"/>
          <p:cNvSpPr txBox="1"/>
          <p:nvPr/>
        </p:nvSpPr>
        <p:spPr>
          <a:xfrm>
            <a:off x="755640" y="476280"/>
            <a:ext cx="7488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UCA ANADOLU LİSESİ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WordArt 7"/>
          <p:cNvSpPr txBox="1"/>
          <p:nvPr/>
        </p:nvSpPr>
        <p:spPr>
          <a:xfrm>
            <a:off x="900000" y="2492280"/>
            <a:ext cx="727236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OZANLAR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med">
    <p:pull dir="l"/>
    <p:sndAc>
      <p:stSnd>
        <p:snd r:embed="rId3" name="pu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Sözlü edebiyat ürünleri müzikle birleşir 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Sözlü edebiyat ürünleri nasıl aktarılı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Anonim ürünlerden başka neler v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1763640" y="476280"/>
            <a:ext cx="58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ÜNİTE SORULARI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l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808000" y="4653000"/>
            <a:ext cx="6335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33"/>
                </a:solidFill>
                <a:latin typeface="Arial"/>
              </a:rPr>
              <a:t>Halk şairi ne demekt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33"/>
                </a:solidFill>
                <a:latin typeface="Arial"/>
              </a:rPr>
              <a:t>Aşık Veysel kimd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33"/>
                </a:solidFill>
                <a:latin typeface="Arial"/>
              </a:rPr>
              <a:t>Aşık Veysel’in eserleri nelerd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33"/>
                </a:solidFill>
                <a:latin typeface="Arial"/>
              </a:rPr>
              <a:t>Günümüzde de halk şairi var mıdı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1332000" y="333360"/>
            <a:ext cx="6480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İÇERİK SORULARI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l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Arial"/>
              </a:rPr>
              <a:t>Halk şairi yüzyıllar öncesinden beri varlığını sürdüren, eskiden ozan-kam-bahşı-şaman dediğimiz sanatçılarımızdı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Arial"/>
              </a:rPr>
              <a:t>Eserlerini saz (eskiden kopuz ) eşliğinde söylerl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1403280" y="404640"/>
            <a:ext cx="6121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HALK ŞAİRİ NE DEMEKTİR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ll dir="l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ASIK%20VEYSEL%20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Sivas – Şarkışla – Sivrialan  köyünde doğmuştur.Çocukken gözlerini kaybeder. Saz çalmaya heveslen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1931 yılında Ahmet Kutsi Tecer tarafından keşfedilir.Anadolu’da konserler verir, radyo programları yapar, konservatuarda dersler ver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1965’te TBMM , 500 lira aylık bağ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1187280" y="404640"/>
            <a:ext cx="6985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ŞIK VEYSEL KİMDİR ?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ll dir="l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qwertyuıopüüüüüüüüüüüüüüüü,,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76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66ff33"/>
                </a:solidFill>
                <a:latin typeface="Arial"/>
              </a:rPr>
              <a:t>Aşık Veysel; Anadolu, toprak sevgisi, köy sorunları ve acılı hayatını iş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66ff33"/>
                </a:solidFill>
                <a:latin typeface="Arial"/>
              </a:rPr>
              <a:t>Halk şairi geleneğini devam ettir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66ff33"/>
                </a:solidFill>
                <a:latin typeface="Arial"/>
              </a:rPr>
              <a:t>Anadolu’yu köy köy , kahve kahve gez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66ff33"/>
                </a:solidFill>
                <a:latin typeface="Arial"/>
              </a:rPr>
              <a:t>İki şeye çok üzülü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0" lang="tr-TR" sz="3200" spc="-1" strike="noStrike">
                <a:solidFill>
                  <a:srgbClr val="66ff33"/>
                </a:solidFill>
                <a:latin typeface="Arial"/>
              </a:rPr>
              <a:t>Askere gidemem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0" lang="tr-TR" sz="3200" spc="-1" strike="noStrike">
                <a:solidFill>
                  <a:srgbClr val="66ff33"/>
                </a:solidFill>
                <a:latin typeface="Arial"/>
              </a:rPr>
              <a:t>Atatürk’e yazdığı destanı okuyamamak</a:t>
            </a:r>
            <a:r>
              <a:rPr b="0" lang="tr-TR" sz="32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1619280" y="260280"/>
            <a:ext cx="6265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DEBİ ŞAHSİYETİ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ll dir="l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yewolşnnnnny"/>
          <p:cNvPicPr/>
          <p:nvPr/>
        </p:nvPicPr>
        <p:blipFill>
          <a:blip r:embed="rId1"/>
          <a:stretch/>
        </p:blipFill>
        <p:spPr>
          <a:xfrm>
            <a:off x="-468360" y="-531720"/>
            <a:ext cx="9612360" cy="7389720"/>
          </a:xfrm>
          <a:prstGeom prst="rect">
            <a:avLst/>
          </a:prstGeom>
          <a:ln w="0">
            <a:noFill/>
          </a:ln>
        </p:spPr>
      </p:pic>
      <p:sp>
        <p:nvSpPr>
          <p:cNvPr id="61" name="WordArt 7"/>
          <p:cNvSpPr txBox="1"/>
          <p:nvPr/>
        </p:nvSpPr>
        <p:spPr>
          <a:xfrm>
            <a:off x="2916360" y="5084640"/>
            <a:ext cx="5832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OST DOST DİYE DİYE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</a:t>
            </a:r>
            <a:r>
              <a:rPr b="0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İCESİNE SARILDIM</a:t>
            </a:r>
            <a:endParaRPr b="0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l"/>
    <p:sndAc>
      <p:stSnd>
        <p:snd r:embed="rId7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21:36:23Z</dcterms:created>
  <dc:creator>TOSHIBA</dc:creator>
  <dc:description/>
  <dc:language>en-US</dc:language>
  <cp:lastModifiedBy>Öğrenci</cp:lastModifiedBy>
  <dcterms:modified xsi:type="dcterms:W3CDTF">2011-01-06T15:12:40Z</dcterms:modified>
  <cp:revision>5</cp:revision>
  <dc:subject/>
  <dc:title>Slayt 1</dc:title>
</cp:coreProperties>
</file>